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E6F78-EF48-4389-BA0E-6A3BE5A5D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82CF7-C7A9-4A6B-B2B9-C32515B243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B1E85A-09D1-49F6-B3E9-489F9F5B6A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B414E-2C16-4D91-8F1E-D7E2FD08F9A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4F878-0BE4-42FC-BCE0-A5A9A0BD96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AAAF-02F5-40F8-AA4D-3C2A631B64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C1B39-2E02-4FC9-A841-449C39E6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0E0CE-B8B1-429F-9AA0-D5F40CDB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B62CC-E401-4178-B18F-A775CFE16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94EB68-D6BA-44A2-B255-305EC9EED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CE836-77FA-4526-9159-C31B46DC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82282-E8DD-4BA5-A710-12B53F92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C04D8-758B-4D36-B02A-5091872F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E422E-A6C4-4310-A8EE-646356FB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AE956-88CE-48DD-98A2-906E0F7E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4890D3-6E06-4CF4-BFCA-FD400C24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4DA3-4B8D-4BDB-907E-90A5038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9F2EA-F693-4020-AB36-4E0166EA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27A7F-55B3-446B-8B8F-B5C85909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9BFD58-F7A7-4ACC-AB12-DDE425A9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6E12F-7979-4E11-8224-9A41062C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28190-7FA5-44EC-85E1-448AA87A9F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F252-6631-4C4E-9DEC-0FC23B6C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8E0C9-655E-47EC-B8C5-3D44F7A8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2AD39-43C2-409F-904E-CB668220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9285-ABAF-4015-AA5C-6E06FDB16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713F-1129-4EAD-8348-C213C739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61BE7-06FB-4272-9225-F29B156A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069F-2B06-499D-A7B7-140E9EE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16.5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2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9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990720" y="0"/>
            <a:ext cx="180720" cy="6858000"/>
          </a:xfrm>
          <a:prstGeom prst="rect">
            <a:avLst/>
          </a:prstGeom>
          <a:solidFill>
            <a:srgbClr val="fed9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e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4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5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e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6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17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9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2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Oval 2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0440" y="5500800"/>
            <a:ext cx="13680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AF9815A-4413-4ED7-9FA0-34CAEE3D7C33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16.5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D8F5FD-BB84-4522-A7F0-BF33747C7241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803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филактика девиантного поведения среди несовершеннолетних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 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Евтушенко В.А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907920"/>
            <a:ext cx="778536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особенности отклоняющегося пове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казание помощи  учащимся, подвергшимся жестокому обращ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ры профилактики девиантного пове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entury Schoolbook"/>
              </a:rPr>
              <a:t>Виды проявления буллинга</a:t>
            </a:r>
            <a:r>
              <a:rPr b="0" lang="ru-RU" sz="32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ербальная агресс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смешки, присвоение кличек, бесконечные замечания и необъективные оценки, высмеивание, унижение в присутствии других детей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оциальное исключ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ойкот, отторжение, изоляция, заталкивание под парту, вымогательство, отказ от общения с жерт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Физическое насил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биение, нанесение удара, шлепки, подзатыльники, порча и отнимание вещ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ризнак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уллинга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6836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368360"/>
            <a:ext cx="8280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воряются больными, чтобы избежать похода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ятся одни идти в школу и из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едение и темперамент меня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вляются частые просьбы дать денег, воров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ижаются качество учебы, теряются интерес к любимым занят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танцируются от взрослых и дете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яют агрессию ко взрослым и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место социально-опасные формы поведения: насильственного, суицидального и зависимого характера (ПАВ зависимость, интернет-зависимость, игровая завис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ваная верхняя одежда или другие поврежденные ве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ые ссадины, синяки и другие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зговор с ребен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907920"/>
            <a:ext cx="74660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«вышибать» ответы ребенка или подростка на тему насилия категорически нельзя!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едагог должен быть готов к пониманию и сопереживанию рассказу травмированного ребенка о травле другими детьм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ети в качестве доверенного лица во многих случаях склонны выбирать авторитетных взрос­лы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бенка, подвергшегося насилию, важны слов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тебе ве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 твоя вин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постараюсь сделать так, чтобы тебе больше не угрожала опасность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60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entury Schoolbook"/>
              </a:rPr>
              <a:t>Алгоритм работы с преследователям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говорить отдельно с каждым ребенком, ставшим их жертвой, и предложить письменно описать все случившеес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говорить отдельно с каждым членом группы агрес­соров и получить от них письменное изложение инцидента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ить каждому члену агрессивной группы, что он нарушил правила поведения, и указать меру ответственности за содеянное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оворить с родителями детей, участвовавших в аг­рессивной группе, показать им письменные объяснения ребят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овать от ребят-обидчиков извинений перед по­терпевши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действия обидчика прикрывались игровой фор­мой, зафиксировать, кто ещё из детей принимал участие в такой «игре»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entury Schoolbook"/>
              </a:rPr>
              <a:t>Профилактика буллин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сихоэмоциональной среды и улучшение пси­хологического климата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сихолого-педагогической компетентности взрослых (родителей, педагог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образовательная работа с дет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коммуникативной культуры обучающих­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ррекционных программ, направленных на сни­жение уровня агрессивности и сплочение детского (подростково­го) коллекти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Благодарю            за внимание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Дата 3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Админ</cp:lastModifiedBy>
  <dcterms:modified xsi:type="dcterms:W3CDTF">2017-03-26T18:25:16Z</dcterms:modified>
  <cp:revision>27</cp:revision>
  <dc:subject/>
  <dc:title>ОТЧЕТ СОЦИАЛЬНОГО ПЕДАГОГА О ДЕЯТЕЛЬНОСТИ В   2010-2011 у.г.</dc:title>
</cp:coreProperties>
</file>